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97760"/>
            <a:ext cx="104648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7496640"/>
            <a:ext cx="104648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88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7496640"/>
            <a:ext cx="5106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88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7496640"/>
            <a:ext cx="336960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6699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460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92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352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881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881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881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072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4960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16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39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588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0340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476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9922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368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368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3684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280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712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9492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072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4960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16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39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408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274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140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00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fba"/>
            </a:gs>
            <a:gs pos="100000">
              <a:srgbClr val="008fff"/>
            </a:gs>
          </a:gsLst>
          <a:lin ang="15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654280" y="907920"/>
            <a:ext cx="674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ff57"/>
                </a:solidFill>
                <a:latin typeface="Jazz LET"/>
                <a:ea typeface="Jazz LET"/>
              </a:rPr>
              <a:t>Nitrog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2031840" y="2324160"/>
            <a:ext cx="4940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6d140"/>
                </a:solidFill>
                <a:latin typeface="Gill Sans"/>
                <a:ea typeface="Gill Sans"/>
              </a:rPr>
              <a:t>Element Symbol: 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2679840" y="3625920"/>
            <a:ext cx="364464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c3228"/>
                </a:solidFill>
                <a:latin typeface="Gill Sans"/>
                <a:ea typeface="Gill Sans"/>
              </a:rPr>
              <a:t>Atomic Number: 7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c3228"/>
                </a:solidFill>
                <a:latin typeface="Gill Sans"/>
                <a:ea typeface="Gill Sans"/>
              </a:rPr>
              <a:t>Atomic Mass: 14.0067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797520" y="3257640"/>
            <a:ext cx="5996160" cy="40640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H="1" flipV="1">
            <a:off x="6883200" y="1660680"/>
            <a:ext cx="4546440" cy="2885760"/>
          </a:xfrm>
          <a:prstGeom prst="line">
            <a:avLst/>
          </a:prstGeom>
          <a:ln w="38160">
            <a:solidFill>
              <a:srgbClr val="ff0c0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6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7607160" cy="5156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134040" y="1714680"/>
            <a:ext cx="419040" cy="520560"/>
          </a:xfrm>
          <a:prstGeom prst="ellipse">
            <a:avLst/>
          </a:prstGeom>
          <a:noFill/>
          <a:ln w="114480">
            <a:solidFill>
              <a:srgbClr val="7fe0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60240" y="5276880"/>
            <a:ext cx="3911760" cy="3699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391520" y="6819840"/>
            <a:ext cx="53211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7a5fc"/>
                </a:solidFill>
                <a:latin typeface="Gill Sans"/>
                <a:ea typeface="Gill Sans"/>
              </a:rPr>
              <a:t>Period, 1; Group 15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5283360" y="7512120"/>
            <a:ext cx="39495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ae86b"/>
                </a:solidFill>
                <a:latin typeface="Gill Sans"/>
                <a:ea typeface="Gill Sans"/>
              </a:rPr>
              <a:t>Drawing of a Nitrogen Ato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6451560" y="2247840"/>
            <a:ext cx="3262320" cy="4546800"/>
          </a:xfrm>
          <a:prstGeom prst="line">
            <a:avLst/>
          </a:prstGeom>
          <a:ln w="38160">
            <a:solidFill>
              <a:srgbClr val="fd060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7709040"/>
            <a:ext cx="1155600" cy="177840"/>
          </a:xfrm>
          <a:prstGeom prst="line">
            <a:avLst/>
          </a:prstGeom>
          <a:ln w="38160">
            <a:solidFill>
              <a:srgbClr val="2274f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9474120" y="3517920"/>
            <a:ext cx="2260800" cy="2260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8051760" y="1143000"/>
            <a:ext cx="4013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ed1b"/>
                </a:solidFill>
                <a:latin typeface="Gill Sans"/>
                <a:ea typeface="Gill Sans"/>
              </a:rPr>
              <a:t>Liquid Nitrog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9626400" y="1955520"/>
            <a:ext cx="36828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5560" y="3492360"/>
            <a:ext cx="1266192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64be"/>
                </a:solidFill>
                <a:latin typeface="Arial"/>
                <a:ea typeface="Arial"/>
              </a:rPr>
              <a:t>(i) Color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gen is a colorless g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64be"/>
                </a:solidFill>
                <a:latin typeface="Arial"/>
                <a:ea typeface="Arial"/>
              </a:rPr>
              <a:t>(ii) Odor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has no odo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64be"/>
                </a:solidFill>
                <a:latin typeface="Arial"/>
                <a:ea typeface="Arial"/>
              </a:rPr>
              <a:t>(iii) Tast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a tasteless g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64be"/>
                </a:solidFill>
                <a:latin typeface="Arial"/>
                <a:ea typeface="Arial"/>
              </a:rPr>
              <a:t>(iv) Vapor density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vapor density of nitrogen is 14 (Vapor density of air = 14.4). Hence it is slightly lighter than ai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64be"/>
                </a:solidFill>
                <a:latin typeface="Arial"/>
                <a:ea typeface="Arial"/>
              </a:rPr>
              <a:t>(v) Solubility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gen is slightly soluble in water. 1 liter of water dissolves about 22 ml of nitrogen at 0</a:t>
            </a:r>
            <a:r>
              <a:rPr b="0" lang="en-US" sz="2400" spc="-1" strike="noStrike" baseline="32000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64be"/>
                </a:solidFill>
                <a:latin typeface="Arial"/>
                <a:ea typeface="Arial"/>
              </a:rPr>
              <a:t>(vi) Liquefactio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en cooled and compressed nitrogen liquefies to a colorless liquid, which boils at -196</a:t>
            </a:r>
            <a:r>
              <a:rPr b="0" lang="en-US" sz="2400" spc="-1" strike="noStrike" baseline="32000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. When further cooled, it freezes to a white snow like solid, which melts at -210</a:t>
            </a:r>
            <a:r>
              <a:rPr b="0" lang="en-US" sz="2400" spc="-1" strike="noStrike" baseline="32000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2362320" y="927000"/>
            <a:ext cx="6146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aff2f"/>
                </a:solidFill>
                <a:latin typeface="Gill Sans"/>
                <a:ea typeface="Gill Sans"/>
              </a:rPr>
              <a:t>Physical Proper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6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527120" y="800280"/>
            <a:ext cx="8766360" cy="66164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35040" y="101520"/>
            <a:ext cx="10566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66cff"/>
                </a:solidFill>
                <a:latin typeface="Gill Sans"/>
                <a:ea typeface="Gill Sans"/>
              </a:rPr>
              <a:t>Isotopes and 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1434960" y="1523880"/>
            <a:ext cx="1270080" cy="5372280"/>
          </a:xfrm>
          <a:prstGeom prst="ellipse">
            <a:avLst/>
          </a:prstGeom>
          <a:noFill/>
          <a:ln w="203040">
            <a:solidFill>
              <a:srgbClr val="92f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2666880" y="4317840"/>
            <a:ext cx="6400800" cy="2830680"/>
          </a:xfrm>
          <a:prstGeom prst="line">
            <a:avLst/>
          </a:prstGeom>
          <a:ln w="38160">
            <a:solidFill>
              <a:srgbClr val="e017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8229600" y="6845400"/>
            <a:ext cx="341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3ff37"/>
                </a:solidFill>
                <a:latin typeface="Gill Sans"/>
                <a:ea typeface="Gill Sans"/>
              </a:rPr>
              <a:t>Isotopes</a:t>
            </a:r>
            <a:endParaRPr b="0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2730600" y="6248520"/>
            <a:ext cx="1270080" cy="1269720"/>
          </a:xfrm>
          <a:prstGeom prst="ellipse">
            <a:avLst/>
          </a:prstGeom>
          <a:noFill/>
          <a:ln w="330120">
            <a:solidFill>
              <a:srgbClr val="ffe9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7086600"/>
            <a:ext cx="3225600" cy="1027080"/>
          </a:xfrm>
          <a:prstGeom prst="line">
            <a:avLst/>
          </a:prstGeom>
          <a:ln w="38160">
            <a:solidFill>
              <a:srgbClr val="2e10f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5816520" y="7835760"/>
            <a:ext cx="3835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6ff21"/>
                </a:solidFill>
                <a:latin typeface="Gill Sans"/>
                <a:ea typeface="Gill Sans"/>
              </a:rPr>
              <a:t>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b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510000" y="1143000"/>
            <a:ext cx="4546440" cy="71359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359000" y="520560"/>
            <a:ext cx="8839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3a"/>
                </a:solidFill>
                <a:latin typeface="Gill Sans"/>
                <a:ea typeface="Gill Sans"/>
              </a:rPr>
              <a:t>Foun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8273880"/>
            <a:ext cx="41911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afef0"/>
                </a:solidFill>
                <a:latin typeface="Gill Sans"/>
                <a:ea typeface="Gill Sans"/>
              </a:rPr>
              <a:t>Discovered in Scotland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8880" y="4330800"/>
            <a:ext cx="4140360" cy="4140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8201160" y="4403880"/>
            <a:ext cx="3390840" cy="39909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4952880" y="819000"/>
            <a:ext cx="33148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16a7"/>
                </a:solidFill>
                <a:latin typeface="Gill Sans"/>
                <a:ea typeface="Gill Sans"/>
              </a:rPr>
              <a:t>Uses of Nitrog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8344080" y="2489040"/>
            <a:ext cx="31240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3fffc"/>
                </a:solidFill>
                <a:latin typeface="Gill Sans"/>
                <a:ea typeface="Gill Sans"/>
              </a:rPr>
              <a:t>Nitrogen is used to make light bulb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723960" y="1631880"/>
            <a:ext cx="396252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bff"/>
                </a:solidFill>
                <a:latin typeface="Gill Sans"/>
                <a:ea typeface="Gill Sans"/>
              </a:rPr>
              <a:t>Nitrogen is used to make some explosives like T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ff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162240" y="3187800"/>
            <a:ext cx="588024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ffeb"/>
                </a:solidFill>
                <a:latin typeface="Verdana"/>
                <a:ea typeface="Verdana"/>
              </a:rPr>
              <a:t>The word "Nitrogen" means, "giving rise to niter."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2654280" y="717480"/>
            <a:ext cx="5918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c7532"/>
                </a:solidFill>
                <a:latin typeface="Gill Sans"/>
                <a:ea typeface="Gill Sans"/>
              </a:rPr>
              <a:t>An Interesting Fact</a:t>
            </a:r>
            <a:endParaRPr b="0" lang="en-US" sz="7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